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2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DCAE-E991-4FB0-A88C-9D95F0E30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178-FF94-4491-BB86-5E8000E9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469-E3BB-4821-960B-4F480410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51B4-E9FA-40CD-BA21-40426BAF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C14E-CD86-4950-B78C-EE81CC356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816FF-C3FD-4A96-8BD4-EE6C4B503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46248-BFB8-411B-A6D9-5BA36D3D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A462-F13B-4FC3-8659-72D9C601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F8069-075D-4E6E-9D5F-5A991AB3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492D-641C-4151-9C1A-D315A539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B5A9-EA16-42D0-92B9-19E14B2C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50EA-EBC4-46FE-A490-FC12A818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DD37-7BF2-4608-BC28-D73B1D84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1F5B-F1A2-44F4-AC9C-CD50E401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D100-9DDB-47BC-8394-F703EE96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6AFD-F54C-45B5-9A47-D25720C9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A445-D26A-4C4E-A594-349A4BEF1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C926-9A74-433F-ACF6-36572FA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AF9-DC72-416A-B941-1620CD8A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B6B-11CF-4BF3-A6DA-D0FC7F71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396-58DA-4249-BE85-884DA30E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D74A-9F36-49D6-81B1-756A21CA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4863-0FD8-41D9-93BD-420157B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EAB8-FA58-42D3-ABC3-C734B671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07DA-7E21-4C0D-9ADC-35742503F80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65760" indent="-36576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821520" indent="-364320">
              <a:spcBef>
                <a:spcPts val="10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2" marL="1095840" indent="-182880">
              <a:spcBef>
                <a:spcPts val="10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0160" indent="-182880">
              <a:spcBef>
                <a:spcPts val="1001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4" marL="1645920" indent="-182880">
              <a:spcBef>
                <a:spcPts val="1001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5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6" marL="1645920" indent="-182880">
              <a:spcBef>
                <a:spcPts val="1001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4999-FDA1-4586-A59D-0271740A285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 &amp; Mei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eneral Biology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r. Cobb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61976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at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Before the cell divides, the genetic material is copied.  The two identical pieces of DNA join together to form “sister chromatids.”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se chromatids are joined at the centromer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3429000" y="571680"/>
            <a:ext cx="4610160" cy="6286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350532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 &amp; Chromatid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Genetic Informat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8483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 order for cells to reproduce, they must first go through the cell cycle, which lasts about 10-20 hour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the cell cycle, the DNA and organelles are copied, the cell increases in size, and then divid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cell cycle is composed of several step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ro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2" marL="1370160" indent="-22860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elophas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lnSpc>
                <a:spcPct val="90000"/>
              </a:lnSpc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ytokine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terphase is made up of 3 phase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1 – growth and function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S-phase, the cell’s DNA is synthesized (copied). This phase lasts for 3 – 6 hour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93120" indent="-39312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G2 phase the cell prepares to divide (organelles and cytoplasm increase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When the cell is actually dividing, it is called mitosis, followed by cytokinesi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uring mitosis, the nucleus and the duplicated DNA divide and are moved into two daughter cell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Object 4"/>
          <p:cNvGraphicFramePr/>
          <p:nvPr/>
        </p:nvGraphicFramePr>
        <p:xfrm>
          <a:off x="4800600" y="2438280"/>
          <a:ext cx="4114800" cy="27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438280"/>
                    <a:ext cx="41148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During cytokinesis, the cytoplasm of the cell divides into two part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t the end of cytokinesis, the two daughter cells completely separate, forming two identical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Theor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ccording to the cell theory, all cells come from pre-existing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But why do cells reproduce?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auto0"/>
          <p:cNvPicPr/>
          <p:nvPr/>
        </p:nvPicPr>
        <p:blipFill>
          <a:blip r:embed="rId1"/>
          <a:stretch/>
        </p:blipFill>
        <p:spPr>
          <a:xfrm>
            <a:off x="1143000" y="0"/>
            <a:ext cx="693432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FLIP BOOK – 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Label flaps like this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66680" y="2101320"/>
            <a:ext cx="777240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CYCLE (title page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ITOSIS – Pro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elophase/Cytokinesi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Cycle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Cycl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cell cycle is divided into three part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ito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ytokinesi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During interphase, the cell is very active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Organelles and DNA are duplicated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495680" y="1371600"/>
            <a:ext cx="4476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ter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3810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Individual chromosomes are not visible because they are loosely packed chromat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N is found only during INter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547640"/>
            <a:ext cx="4343400" cy="42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itosis is divided into 4 phase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o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Meta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na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lophase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uring prophase, 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chromatin fibers condense and become chromos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ister chromatids join at the centrom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ister chromatIDs are IDen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9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724280" y="2057400"/>
            <a:ext cx="4572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r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ucleolus disappear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uclear membrane disappear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Spindle fibers form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from spindl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2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647720"/>
            <a:ext cx="434340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All the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line up in the middle of the cell (called the “metaphase plate”)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76920" y="1600200"/>
            <a:ext cx="4057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Cell Reproduc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s reproduce to replace lost or damaged cells with new healthy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New cells gradually replace dead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 reproduction is responsible for your growth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Met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Spindle fibers attach to the chromosomes at the centromere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8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4800600" y="1600200"/>
            <a:ext cx="4086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na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pindle fibers condense, causing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sister chromatids to separa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ach chromatid is now a “daughter chromosome.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1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1371600"/>
            <a:ext cx="3824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381024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elophase begins when the </a:t>
            </a: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reach the poles of the spindle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rocesses that occurred during prophase are reversed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4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990720"/>
            <a:ext cx="32068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lophas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1024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he nuclear envelope and nucleolus reappear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The spindle disappear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hromosomes uncoil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7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2201760"/>
            <a:ext cx="3809880" cy="39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uring cytokinesis,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cytoplasm separates into the two daughter cells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he two daughter cells separate from each oth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Picture 5" descr="C:\DOCUME~1\ganguly\LOCALS~1\Temp\auto0.bmp"/>
          <p:cNvPicPr/>
          <p:nvPr/>
        </p:nvPicPr>
        <p:blipFill>
          <a:blip r:embed="rId1"/>
          <a:stretch/>
        </p:blipFill>
        <p:spPr>
          <a:xfrm>
            <a:off x="5029200" y="1752480"/>
            <a:ext cx="400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ytokinesi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3886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animal cells a “cleavage furrow” forms when the two cells begin to separat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plants, a cell plate forms and separates the two cell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5029200" y="368280"/>
            <a:ext cx="3657600" cy="306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"/>
          <p:cNvPicPr/>
          <p:nvPr/>
        </p:nvPicPr>
        <p:blipFill>
          <a:blip r:embed="rId2"/>
          <a:stretch/>
        </p:blipFill>
        <p:spPr>
          <a:xfrm>
            <a:off x="5029200" y="3429000"/>
            <a:ext cx="37004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ll divisio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 result of the cell cycle is one cell becoming two identical cell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Reproduction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sexual reproduction occurs when one organism makes an exact duplicate of itself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Sexual reproduction occurs when the genetic information from two organisms combine to make a new, genetically different, organism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Genetic Material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Genetic material (DNA or RNA) can exist in your cells in three forms: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n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osom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9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hromatid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atin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Genetic material is called chromatin when it is in a mass of very long fibers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4724280" y="1371600"/>
            <a:ext cx="4233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As the cell prepares to divide, the genetic material condenses and winds around itself, forming chromosom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hromosomes are visible under powerful microscopes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hromosom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hromosomes are pictured in a karyotype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Humans have 23 pairs of chromosomes. 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These pairs are called homologous pairs of chromosomes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iploi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Cells that have homologous pairs of chromosomes are called diploid.  (2</a:t>
            </a:r>
            <a:r>
              <a:rPr b="0" i="1" lang="en-US" sz="4000" spc="-1" strike="noStrike">
                <a:solidFill>
                  <a:srgbClr val="5b5249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5249"/>
                </a:solidFill>
                <a:latin typeface="Times New Roman"/>
              </a:rPr>
              <a:t>Most organisms are diploid.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05:35Z</dcterms:created>
  <dc:creator>Teacher</dc:creator>
  <dc:description/>
  <dc:language>en-US</dc:language>
  <cp:lastModifiedBy>jcobb</cp:lastModifiedBy>
  <dcterms:modified xsi:type="dcterms:W3CDTF">2011-12-10T00:07:21Z</dcterms:modified>
  <cp:revision>35</cp:revision>
  <dc:subject/>
  <dc:title>Types of Reproduction</dc:title>
</cp:coreProperties>
</file>